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18E-EEB2-413C-BB40-EEC0CE5A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573-5B64-435B-A3AB-DA6D0363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C04-0877-47B0-863B-A6FF3081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E13-8F9D-4F5C-AB80-304CA7DE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D5E-D831-41AC-90F3-47A43CED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F95-D625-4379-90A9-E4C54699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BAB-777E-4721-AB3C-F126CDBB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41E-A18F-4CD9-BCE5-BF4A10F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698-16D5-4130-B265-D5FE31B1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5E4-A8C5-4C46-90DB-20420211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695-6BEB-4D62-BCC4-6BAF3967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6FB-9687-4871-860D-80A4F95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39A-811C-4399-86AD-83D7F5174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51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l pres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os verbos irregula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9. la mochila c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b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. yo recono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onoz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1. t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tra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2. Ricardo y Pen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élope s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45960" y="3886200"/>
            <a:ext cx="671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3. las respuestas desapare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aparec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4. el mesero serv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ir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5. Tina ven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ie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6. los hermanos segu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igu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7. yo dirig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rij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8. Patricio te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06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 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ú es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9. Dorothy y su perro Toto sentir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 sien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. yo sab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1. Manuel ped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2. tú ca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3. yo parec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rezc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4. Norma sal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5. nosotros reconoc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onocem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6. yo cab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p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712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7. él oí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y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8. yo rehac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hag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. yo ca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9. nosotros ven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enim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0. María pensa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iens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1. Pamela supon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pon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2. Sarita resolv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suelv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3. yo ofrec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frezc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4. Tito interven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ntervien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5. nosotros serv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rvim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85800" y="1978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6. yo conduc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duzc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. Tom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ás sa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b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. yo dec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. los alumnos 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. Pepe y Tito d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7. nosotros o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í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8. yo po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n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7:50:15Z</dcterms:created>
  <dc:creator>jbarber</dc:creator>
  <dc:description/>
  <dc:language>en-US</dc:language>
  <cp:lastModifiedBy>Jessica Kaplan</cp:lastModifiedBy>
  <dcterms:modified xsi:type="dcterms:W3CDTF">2015-12-08T15:01:43Z</dcterms:modified>
  <cp:revision>24</cp:revision>
  <dc:subject/>
  <dc:title>El presente</dc:title>
</cp:coreProperties>
</file>